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las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5C1C-B78C-4F7C-B27D-D175CE68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4910-B30E-4407-9524-CFDA35B1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F5F-AB92-4176-A361-5950C4B2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3FB-67D9-4C5D-8660-D4790ECE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2AB0-EA1C-465A-B841-489C0B6E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5767-2A84-48F1-A3AD-2E337A08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CA3E-0CB8-49CD-B484-B99F916E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FD25-6F4E-4FD8-8904-93D4CD06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ED09-64C7-432C-BD3A-51C36C9C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5212-3989-44BB-B86A-20FBF583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6FB8-1556-4180-89E6-BD31D5D8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801-924A-47D7-97B5-BB1805D5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9750-2163-418F-BC36-C2B6655D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595B-5C95-4A8D-9D35-5DCA7BBE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92A9-321B-4C46-9DD5-8C4DD9D8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61AE-1EB6-4C9E-8377-071E70DA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B1D0-9B86-4C7C-ADEA-A415634A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5AD-341E-4728-925C-01992746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9AF-B89D-44B2-B4B9-9FE20839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11C-77B7-46D4-9F6D-01164BD2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BED-58B5-4D35-AC1C-C5C2B0A5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FD3-F0A6-4D58-9C4A-DC7B39FB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AB3-04ED-416A-B626-100C9483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087-10AE-4482-AE71-3CEA6BBB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028E-6984-4308-A04C-A8AA1899E1C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EFD5-EB7F-4B2E-A990-245E20F2502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cc3300"/>
                </a:solidFill>
                <a:latin typeface="Times New Roman"/>
              </a:rPr>
              <a:t>3ª DECLINACIÓN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676520"/>
          <a:ext cx="7772400" cy="42624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63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SINENCIAS Masc. / Fe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NOMIN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VOC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ACUS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GENI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D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ABL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3581280" y="3886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352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--- / -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28195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--- / -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5410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28195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876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4419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5410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I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I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343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3809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3300"/>
                </a:solidFill>
                <a:latin typeface="Times New Roman"/>
              </a:rPr>
              <a:t>3ª DECLINACIÓN (neutro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90720" y="1676520"/>
          <a:ext cx="7772400" cy="42624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SINENCIAS Neutr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NOMIN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VOC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ACUS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GENI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D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ABL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3581280" y="3886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352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28195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5410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28195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876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4419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5410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I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I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343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3886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4:23:34Z</dcterms:created>
  <dc:creator>Rogelio</dc:creator>
  <dc:description/>
  <dc:language>en-US</dc:language>
  <cp:lastModifiedBy>INVES-S6600A</cp:lastModifiedBy>
  <dcterms:modified xsi:type="dcterms:W3CDTF">2009-02-24T18:45:11Z</dcterms:modified>
  <cp:revision>68</cp:revision>
  <dc:subject/>
  <dc:title>Enunciación del sistema nominal</dc:title>
</cp:coreProperties>
</file>